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28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32.png" ContentType="image/png"/>
  <Override PartName="/ppt/media/image6.jpeg" ContentType="image/jpeg"/>
  <Override PartName="/ppt/media/image18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9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ADB7-8A3D-47B0-BDD0-E2A6507B1F8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4726-D221-47EA-B258-1844E71CB35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383C-885B-49F5-AFC1-34FD634F996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EE83-1632-4192-908C-9E47901C76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FDE0-6AA4-4968-8F23-C30DB3E60E9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21EB-CD9C-4366-91A3-26A0D288415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F374-47F0-406C-BC8F-9907E7F47CC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5EF2-CB89-43CB-9B1F-E6D0D19DB0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7C70-E6BA-48CC-BDDB-25972D22C37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4BE6-38FC-499B-81FE-828A8CCE983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80BD-2649-48C2-89B3-61757E17885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903E-F692-44DD-A7A0-D57F6CEA39A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685B-13D5-4643-8EE1-539777E1BCB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095-2746-45A7-A26E-46253AB1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3A1-CF30-4B2A-92CD-91F9F82B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29B-8AF8-4D3F-B1EC-C26B9609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438-E849-4825-9A76-1D469830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97D9-3F0E-4E69-A1FA-7E59B68C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6105-C4ED-4B08-A8AC-ADB81DED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5083-5DAF-48EB-BDA4-470F2704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3C3B-DEFA-40E1-835C-2E312BEE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B17A-9DC6-4159-9695-FBE1C6E1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5452-5D8F-4B77-A186-0546C091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1E38-EDAD-44E7-B1D5-0B593AA8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C6F-9CF3-4D36-B7EC-21B4D90B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D32D-21BA-4CE6-B5BB-7D6E0D98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075E-65CF-4832-9DF7-FC4946CD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FE47-64FC-4E8D-8607-5945F2B3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BCB8-DBF0-4943-A76C-FE113B41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5F31-1AD9-4F84-B7CB-DEFFEFBA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16A-AE21-4C20-89D9-CBD4554F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27A-5972-4ECB-B866-EBD8731C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4E6-6289-4931-8EDE-EF1B154E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E7F-77E2-4B7F-A546-BF6100AC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5F2-1E99-441D-BFC9-68ECD8E1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FB7-4456-4C04-BF7F-7BC92175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CAE-A6AF-425A-B348-4F195C7B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e5e5c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45B5-91E7-44B5-A8C3-6505D1A61439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e5e5c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4AD2-F01E-41DB-8381-A9EA215ABE0A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papiers"/>
          <p:cNvPicPr/>
          <p:nvPr/>
        </p:nvPicPr>
        <p:blipFill>
          <a:blip r:embed="rId1"/>
          <a:stretch/>
        </p:blipFill>
        <p:spPr>
          <a:xfrm>
            <a:off x="971640" y="765000"/>
            <a:ext cx="7056360" cy="5289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PAPIER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92000" y="4723920"/>
            <a:ext cx="618804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 Black"/>
              </a:rPr>
              <a:t>Gramatura papieru</a:t>
            </a:r>
            <a:r>
              <a:rPr b="1" lang="pl-PL" sz="24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82632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pl-PL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masa jednego metra kwadratoweg</a:t>
            </a: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o </a:t>
            </a:r>
            <a:r>
              <a:rPr b="1" lang="pl-PL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wyrobu papierniczego wyrażonego w gra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przykł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BIBUŁA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produkt papierniczy o gramaturze 65–250 g/m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TEKTURA</a:t>
            </a:r>
            <a:r>
              <a:rPr b="1" lang="pl-PL" sz="20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lang="pl-PL" sz="2000" spc="-1" strike="noStrike">
                <a:solidFill>
                  <a:srgbClr val="0066ff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produkt papierniczy o gramaturze od 251 g/m2</a:t>
            </a: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zwykle do</a:t>
            </a: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900 g/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KARTON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produkt papierniczy  o gramaturze 161–315 g/m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8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Rodzaje materiałów  papierniczych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 rot="10800000">
            <a:off x="683640" y="1989000"/>
            <a:ext cx="50292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"/>
          </a:bodyPr>
          <a:p>
            <a:pPr lvl="4" marL="156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apier"/>
          <p:cNvPicPr/>
          <p:nvPr/>
        </p:nvPicPr>
        <p:blipFill>
          <a:blip r:embed="rId1"/>
          <a:stretch/>
        </p:blipFill>
        <p:spPr>
          <a:xfrm>
            <a:off x="2340000" y="4365720"/>
            <a:ext cx="2016000" cy="1596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8" descr="tektura"/>
          <p:cNvPicPr/>
          <p:nvPr/>
        </p:nvPicPr>
        <p:blipFill>
          <a:blip r:embed="rId2"/>
          <a:stretch/>
        </p:blipFill>
        <p:spPr>
          <a:xfrm>
            <a:off x="7020000" y="2708280"/>
            <a:ext cx="1728720" cy="15177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4"/>
          <p:cNvSpPr/>
          <p:nvPr/>
        </p:nvSpPr>
        <p:spPr>
          <a:xfrm>
            <a:off x="2988360" y="35002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pap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5"/>
          <p:cNvSpPr/>
          <p:nvPr/>
        </p:nvSpPr>
        <p:spPr>
          <a:xfrm>
            <a:off x="41623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6803640" y="22050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te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5003640" y="3500280"/>
            <a:ext cx="11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kar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8"/>
          <p:cNvSpPr/>
          <p:nvPr/>
        </p:nvSpPr>
        <p:spPr>
          <a:xfrm flipH="1">
            <a:off x="900000" y="1989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bibu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9"/>
          <p:cNvSpPr/>
          <p:nvPr/>
        </p:nvSpPr>
        <p:spPr>
          <a:xfrm flipH="1">
            <a:off x="1763640" y="1628640"/>
            <a:ext cx="2376720" cy="576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1"/>
          <p:cNvSpPr/>
          <p:nvPr/>
        </p:nvSpPr>
        <p:spPr>
          <a:xfrm flipH="1">
            <a:off x="3708000" y="1628640"/>
            <a:ext cx="647640" cy="1656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2"/>
          <p:cNvSpPr/>
          <p:nvPr/>
        </p:nvSpPr>
        <p:spPr>
          <a:xfrm>
            <a:off x="4572000" y="1628640"/>
            <a:ext cx="720720" cy="151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3"/>
          <p:cNvSpPr/>
          <p:nvPr/>
        </p:nvSpPr>
        <p:spPr>
          <a:xfrm>
            <a:off x="4859280" y="1628640"/>
            <a:ext cx="1728720" cy="64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6" descr="karton pudełk-poprawka"/>
          <p:cNvPicPr/>
          <p:nvPr/>
        </p:nvPicPr>
        <p:blipFill>
          <a:blip r:embed="rId3"/>
          <a:stretch/>
        </p:blipFill>
        <p:spPr>
          <a:xfrm>
            <a:off x="5148360" y="4365720"/>
            <a:ext cx="2081160" cy="1611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7" descr="bibuła"/>
          <p:cNvPicPr/>
          <p:nvPr/>
        </p:nvPicPr>
        <p:blipFill>
          <a:blip r:embed="rId4"/>
          <a:stretch/>
        </p:blipFill>
        <p:spPr>
          <a:xfrm>
            <a:off x="755640" y="2276640"/>
            <a:ext cx="15033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Podstawowe surowce wykorzystywane do produkcji papieru</a:t>
            </a:r>
            <a:r>
              <a:rPr b="1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897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3366"/>
                </a:solidFill>
                <a:uFillTx/>
                <a:latin typeface="Arial"/>
              </a:rPr>
              <a:t>drzewa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które dostarczają włókna roślin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2" descr="buk"/>
          <p:cNvPicPr/>
          <p:nvPr/>
        </p:nvPicPr>
        <p:blipFill>
          <a:blip r:embed="rId1"/>
          <a:stretch/>
        </p:blipFill>
        <p:spPr>
          <a:xfrm>
            <a:off x="7093080" y="3141720"/>
            <a:ext cx="1333440" cy="208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4"/>
          <p:cNvSpPr/>
          <p:nvPr/>
        </p:nvSpPr>
        <p:spPr>
          <a:xfrm>
            <a:off x="828000" y="25653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top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7310520" y="2205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b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5580000" y="29242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świ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2051640" y="328464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os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3780000" y="602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5" descr="z_m14382"/>
          <p:cNvPicPr/>
          <p:nvPr/>
        </p:nvPicPr>
        <p:blipFill>
          <a:blip r:embed="rId2"/>
          <a:stretch/>
        </p:blipFill>
        <p:spPr>
          <a:xfrm>
            <a:off x="5508720" y="3789360"/>
            <a:ext cx="1176120" cy="2087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7" descr="sosna"/>
          <p:cNvPicPr/>
          <p:nvPr/>
        </p:nvPicPr>
        <p:blipFill>
          <a:blip r:embed="rId3"/>
          <a:stretch/>
        </p:blipFill>
        <p:spPr>
          <a:xfrm>
            <a:off x="3419640" y="4581360"/>
            <a:ext cx="1655640" cy="1256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9"/>
          <p:cNvSpPr/>
          <p:nvPr/>
        </p:nvSpPr>
        <p:spPr>
          <a:xfrm>
            <a:off x="3636360" y="3619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sos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4" descr="topol_osika"/>
          <p:cNvPicPr/>
          <p:nvPr/>
        </p:nvPicPr>
        <p:blipFill>
          <a:blip r:embed="rId4"/>
          <a:stretch/>
        </p:blipFill>
        <p:spPr>
          <a:xfrm>
            <a:off x="1979640" y="4005360"/>
            <a:ext cx="985680" cy="1944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6" descr="topola"/>
          <p:cNvPicPr/>
          <p:nvPr/>
        </p:nvPicPr>
        <p:blipFill>
          <a:blip r:embed="rId5"/>
          <a:stretch/>
        </p:blipFill>
        <p:spPr>
          <a:xfrm>
            <a:off x="611280" y="3281400"/>
            <a:ext cx="1512720" cy="123516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7"/>
          <p:cNvSpPr/>
          <p:nvPr/>
        </p:nvSpPr>
        <p:spPr>
          <a:xfrm rot="5400000">
            <a:off x="1172520" y="2220120"/>
            <a:ext cx="390240" cy="217440"/>
          </a:xfrm>
          <a:custGeom>
            <a:avLst/>
            <a:gdLst>
              <a:gd name="textAreaLeft" fmla="*/ 60840 w 390240"/>
              <a:gd name="textAreaRight" fmla="*/ 341640 w 39024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8"/>
          <p:cNvSpPr/>
          <p:nvPr/>
        </p:nvSpPr>
        <p:spPr>
          <a:xfrm rot="5400000">
            <a:off x="2108880" y="2796120"/>
            <a:ext cx="677880" cy="216000"/>
          </a:xfrm>
          <a:custGeom>
            <a:avLst/>
            <a:gdLst>
              <a:gd name="textAreaLeft" fmla="*/ 105840 w 677880"/>
              <a:gd name="textAreaRight" fmla="*/ 593280 w 6778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9"/>
          <p:cNvSpPr/>
          <p:nvPr/>
        </p:nvSpPr>
        <p:spPr>
          <a:xfrm rot="5400000">
            <a:off x="3763800" y="3155760"/>
            <a:ext cx="679320" cy="216000"/>
          </a:xfrm>
          <a:custGeom>
            <a:avLst/>
            <a:gdLst>
              <a:gd name="textAreaLeft" fmla="*/ 106200 w 679320"/>
              <a:gd name="textAreaRight" fmla="*/ 594720 w 6793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 rot="5400000">
            <a:off x="5672520" y="2543760"/>
            <a:ext cx="606600" cy="217440"/>
          </a:xfrm>
          <a:custGeom>
            <a:avLst/>
            <a:gdLst>
              <a:gd name="textAreaLeft" fmla="*/ 94680 w 606600"/>
              <a:gd name="textAreaRight" fmla="*/ 531000 w 6066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1"/>
          <p:cNvSpPr/>
          <p:nvPr/>
        </p:nvSpPr>
        <p:spPr>
          <a:xfrm rot="5400000">
            <a:off x="7437240" y="1931760"/>
            <a:ext cx="390600" cy="216000"/>
          </a:xfrm>
          <a:custGeom>
            <a:avLst/>
            <a:gdLst>
              <a:gd name="textAreaLeft" fmla="*/ 60840 w 390600"/>
              <a:gd name="textAreaRight" fmla="*/ 342000 w 390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ro</a:t>
            </a:r>
            <a:r>
              <a:rPr b="1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ś</a:t>
            </a: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liny jednoroczne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2" name="Picture 24" descr="trzcina"/>
          <p:cNvPicPr/>
          <p:nvPr/>
        </p:nvPicPr>
        <p:blipFill>
          <a:blip r:embed="rId1"/>
          <a:stretch/>
        </p:blipFill>
        <p:spPr>
          <a:xfrm>
            <a:off x="7093080" y="2708280"/>
            <a:ext cx="1726920" cy="137808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5508720" y="4292640"/>
            <a:ext cx="1579320" cy="194472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  <p:pic>
        <p:nvPicPr>
          <p:cNvPr id="184" name="Picture 6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1800360" cy="119700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  <p:pic>
        <p:nvPicPr>
          <p:cNvPr id="185" name="Picture 9" descr=""/>
          <p:cNvPicPr/>
          <p:nvPr/>
        </p:nvPicPr>
        <p:blipFill>
          <a:blip r:embed="rId4"/>
          <a:stretch/>
        </p:blipFill>
        <p:spPr>
          <a:xfrm>
            <a:off x="3924360" y="2708280"/>
            <a:ext cx="1800000" cy="1357200"/>
          </a:xfrm>
          <a:prstGeom prst="rect">
            <a:avLst/>
          </a:prstGeom>
          <a:ln w="38160">
            <a:solidFill>
              <a:srgbClr val="cccc99"/>
            </a:solidFill>
            <a:miter/>
          </a:ln>
        </p:spPr>
      </p:pic>
      <p:pic>
        <p:nvPicPr>
          <p:cNvPr id="186" name="Picture 11" descr=""/>
          <p:cNvPicPr/>
          <p:nvPr/>
        </p:nvPicPr>
        <p:blipFill>
          <a:blip r:embed="rId5"/>
          <a:stretch/>
        </p:blipFill>
        <p:spPr>
          <a:xfrm>
            <a:off x="2411280" y="4292640"/>
            <a:ext cx="1433520" cy="201600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  <p:sp>
        <p:nvSpPr>
          <p:cNvPr id="187" name="Rectangle 13"/>
          <p:cNvSpPr/>
          <p:nvPr/>
        </p:nvSpPr>
        <p:spPr>
          <a:xfrm>
            <a:off x="828000" y="17002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jedw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356000" y="1700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557080" y="170028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kon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5435640" y="1700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baweł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7094520" y="1700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trz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4"/>
          <p:cNvSpPr/>
          <p:nvPr/>
        </p:nvSpPr>
        <p:spPr>
          <a:xfrm>
            <a:off x="3059280" y="2349360"/>
            <a:ext cx="217440" cy="1511280"/>
          </a:xfrm>
          <a:prstGeom prst="downArrow">
            <a:avLst>
              <a:gd name="adj1" fmla="val 50000"/>
              <a:gd name="adj2" fmla="val 17375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5"/>
          <p:cNvSpPr/>
          <p:nvPr/>
        </p:nvSpPr>
        <p:spPr>
          <a:xfrm>
            <a:off x="4643280" y="2133720"/>
            <a:ext cx="216000" cy="358560"/>
          </a:xfrm>
          <a:prstGeom prst="downArrow">
            <a:avLst>
              <a:gd name="adj1" fmla="val 50000"/>
              <a:gd name="adj2" fmla="val 41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6"/>
          <p:cNvSpPr/>
          <p:nvPr/>
        </p:nvSpPr>
        <p:spPr>
          <a:xfrm>
            <a:off x="6156360" y="2276640"/>
            <a:ext cx="216000" cy="1657080"/>
          </a:xfrm>
          <a:prstGeom prst="downArrow">
            <a:avLst>
              <a:gd name="adj1" fmla="val 50000"/>
              <a:gd name="adj2" fmla="val 19179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7"/>
          <p:cNvSpPr/>
          <p:nvPr/>
        </p:nvSpPr>
        <p:spPr>
          <a:xfrm>
            <a:off x="1547640" y="2205000"/>
            <a:ext cx="216000" cy="358920"/>
          </a:xfrm>
          <a:prstGeom prst="downArrow">
            <a:avLst>
              <a:gd name="adj1" fmla="val 50000"/>
              <a:gd name="adj2" fmla="val 4154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8"/>
          <p:cNvSpPr/>
          <p:nvPr/>
        </p:nvSpPr>
        <p:spPr>
          <a:xfrm>
            <a:off x="7812000" y="2133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7329600" cy="2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surowce wtórne, które zawierają włókno roślinne:</a:t>
            </a: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3168720" cy="2055960"/>
          </a:xfrm>
          <a:prstGeom prst="rect">
            <a:avLst/>
          </a:prstGeom>
          <a:ln w="12600">
            <a:solidFill>
              <a:srgbClr val="cccc99"/>
            </a:solidFill>
            <a:miter/>
          </a:ln>
        </p:spPr>
      </p:pic>
      <p:sp>
        <p:nvSpPr>
          <p:cNvPr id="199" name="Rectangle 7"/>
          <p:cNvSpPr/>
          <p:nvPr/>
        </p:nvSpPr>
        <p:spPr>
          <a:xfrm>
            <a:off x="4932360" y="558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12"/>
          <p:cNvGraphicFramePr/>
          <p:nvPr/>
        </p:nvGraphicFramePr>
        <p:xfrm>
          <a:off x="5076720" y="2852640"/>
          <a:ext cx="2951280" cy="208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2852640"/>
                    <a:ext cx="2951280" cy="2082960"/>
                  </a:xfrm>
                  <a:prstGeom prst="rect">
                    <a:avLst/>
                  </a:prstGeom>
                  <a:ln w="12600">
                    <a:solidFill>
                      <a:srgbClr val="cccc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2" name="Rectangle 14"/>
          <p:cNvSpPr/>
          <p:nvPr/>
        </p:nvSpPr>
        <p:spPr>
          <a:xfrm>
            <a:off x="4286160" y="306864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1405440" y="522936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makul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5943240" y="5229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szm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901440" y="472428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4" descr="Linie_darcia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692360" y="4076640"/>
            <a:ext cx="1584360" cy="8478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Właściwości papieru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2286000" y="2284560"/>
            <a:ext cx="6318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7"/>
          <p:cNvSpPr/>
          <p:nvPr/>
        </p:nvSpPr>
        <p:spPr>
          <a:xfrm>
            <a:off x="826920" y="1892160"/>
            <a:ext cx="763272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długość i szerokość to kierunek papie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     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decyduje o tym układ włókien masy papiero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8"/>
          <p:cNvSpPr/>
          <p:nvPr/>
        </p:nvSpPr>
        <p:spPr>
          <a:xfrm>
            <a:off x="4284720" y="2421000"/>
            <a:ext cx="287280" cy="358560"/>
          </a:xfrm>
          <a:prstGeom prst="downArrow">
            <a:avLst>
              <a:gd name="adj1" fmla="val 50000"/>
              <a:gd name="adj2" fmla="val 3120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0"/>
          <p:cNvSpPr/>
          <p:nvPr/>
        </p:nvSpPr>
        <p:spPr>
          <a:xfrm>
            <a:off x="4859280" y="491868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włókienka ułożone obok siebie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1"/>
          <p:cNvSpPr/>
          <p:nvPr/>
        </p:nvSpPr>
        <p:spPr>
          <a:xfrm>
            <a:off x="1042920" y="494172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wyznaczają włókienka ułożone wzdłuż - jedne za drug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3"/>
          <p:cNvSpPr/>
          <p:nvPr/>
        </p:nvSpPr>
        <p:spPr>
          <a:xfrm rot="13677000">
            <a:off x="3850920" y="3537000"/>
            <a:ext cx="1230480" cy="1293840"/>
          </a:xfrm>
          <a:custGeom>
            <a:avLst/>
            <a:gdLst>
              <a:gd name="textAreaLeft" fmla="*/ 75960 w 1230480"/>
              <a:gd name="textAreaRight" fmla="*/ 1054800 w 1230480"/>
              <a:gd name="textAreaTop" fmla="*/ 1006560 h 1293840"/>
              <a:gd name="textAreaBottom" fmla="*/ 1109160 h 1293840"/>
            </a:gdLst>
            <a:ahLst/>
            <a:rect l="textAreaLeft" t="textAreaTop" r="textAreaRight" b="textAreaBottom"/>
            <a:pathLst>
              <a:path w="21600" h="21600">
                <a:moveTo>
                  <a:pt x="17659" y="0"/>
                </a:moveTo>
                <a:lnTo>
                  <a:pt x="13717" y="6171"/>
                </a:lnTo>
                <a:lnTo>
                  <a:pt x="16803" y="6171"/>
                </a:lnTo>
                <a:lnTo>
                  <a:pt x="16803" y="16803"/>
                </a:lnTo>
                <a:lnTo>
                  <a:pt x="6171" y="16803"/>
                </a:lnTo>
                <a:lnTo>
                  <a:pt x="6171" y="13717"/>
                </a:lnTo>
                <a:lnTo>
                  <a:pt x="0" y="1765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7659" y="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5" descr="Linie_darcia_2"/>
          <p:cNvPicPr/>
          <p:nvPr/>
        </p:nvPicPr>
        <p:blipFill>
          <a:blip r:embed="rId2"/>
          <a:stretch/>
        </p:blipFill>
        <p:spPr>
          <a:xfrm>
            <a:off x="5940360" y="4005360"/>
            <a:ext cx="1440000" cy="9795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6"/>
          <p:cNvSpPr/>
          <p:nvPr/>
        </p:nvSpPr>
        <p:spPr>
          <a:xfrm>
            <a:off x="1293120" y="371952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Kierunek podłuż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7"/>
          <p:cNvSpPr/>
          <p:nvPr/>
        </p:nvSpPr>
        <p:spPr>
          <a:xfrm>
            <a:off x="5472720" y="3648240"/>
            <a:ext cx="22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Kierunek poprzecz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8" name="Picture 21" descr="układ równiległy"/>
          <p:cNvPicPr/>
          <p:nvPr/>
        </p:nvPicPr>
        <p:blipFill>
          <a:blip r:embed="rId1"/>
          <a:stretch/>
        </p:blipFill>
        <p:spPr>
          <a:xfrm>
            <a:off x="5508720" y="2492280"/>
            <a:ext cx="3047760" cy="18097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6"/>
          <p:cNvSpPr/>
          <p:nvPr/>
        </p:nvSpPr>
        <p:spPr>
          <a:xfrm>
            <a:off x="1332000" y="469908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755640" y="578520"/>
            <a:ext cx="7632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SimSun"/>
              </a:rPr>
              <a:t>sklejanie materi</a:t>
            </a:r>
            <a:r>
              <a:rPr b="1" lang="pl-PL" sz="2800" spc="-1" strike="noStrike">
                <a:solidFill>
                  <a:srgbClr val="003366"/>
                </a:solidFill>
                <a:latin typeface="Arial Black"/>
                <a:ea typeface="SimSun"/>
              </a:rPr>
              <a:t>a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  <a:ea typeface="SimSun"/>
              </a:rPr>
              <a:t>ł</a:t>
            </a:r>
            <a:r>
              <a:rPr b="1" lang="pl-PL" sz="2800" spc="-1" strike="noStrike">
                <a:solidFill>
                  <a:srgbClr val="003366"/>
                </a:solidFill>
                <a:latin typeface="Arial Black"/>
                <a:ea typeface="SimSun"/>
              </a:rPr>
              <a:t>ó</a:t>
            </a: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SimSun"/>
              </a:rPr>
              <a:t>w papierni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Black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4863240" y="4940280"/>
            <a:ext cx="3227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        </a:t>
            </a:r>
            <a:r>
              <a:rPr b="0" lang="pl-PL" sz="1200" spc="-1" strike="noStrike">
                <a:solidFill>
                  <a:srgbClr val="000000"/>
                </a:solidFill>
                <a:latin typeface="Arial Black"/>
                <a:ea typeface="SimSun"/>
              </a:rPr>
              <a:t>    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układ równoległ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1116000" y="1628640"/>
            <a:ext cx="705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należy stosować układ krzyżowy, a nie równoległ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1163160" y="508464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układ krzyżowy         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6"/>
          <p:cNvSpPr/>
          <p:nvPr/>
        </p:nvSpPr>
        <p:spPr>
          <a:xfrm rot="10800000">
            <a:off x="4211640" y="2420640"/>
            <a:ext cx="720720" cy="1439640"/>
          </a:xfrm>
          <a:custGeom>
            <a:avLst/>
            <a:gdLst>
              <a:gd name="textAreaLeft" fmla="*/ 414720 w 720720"/>
              <a:gd name="textAreaRight" fmla="*/ 608400 w 720720"/>
              <a:gd name="textAreaTop" fmla="*/ 194040 h 1439640"/>
              <a:gd name="textAreaBottom" fmla="*/ 61632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9"/>
          <p:cNvSpPr/>
          <p:nvPr/>
        </p:nvSpPr>
        <p:spPr>
          <a:xfrm>
            <a:off x="2268360" y="4653000"/>
            <a:ext cx="358920" cy="431640"/>
          </a:xfrm>
          <a:prstGeom prst="downArrow">
            <a:avLst>
              <a:gd name="adj1" fmla="val 50000"/>
              <a:gd name="adj2" fmla="val 3006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0"/>
          <p:cNvSpPr/>
          <p:nvPr/>
        </p:nvSpPr>
        <p:spPr>
          <a:xfrm>
            <a:off x="6588000" y="472428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3" descr="układ krzyżowy"/>
          <p:cNvPicPr/>
          <p:nvPr/>
        </p:nvPicPr>
        <p:blipFill>
          <a:blip r:embed="rId2"/>
          <a:stretch/>
        </p:blipFill>
        <p:spPr>
          <a:xfrm>
            <a:off x="900000" y="2565360"/>
            <a:ext cx="295128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900000" y="499896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Formaty papieru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0" name="Picture 14" descr="4895"/>
          <p:cNvPicPr/>
          <p:nvPr/>
        </p:nvPicPr>
        <p:blipFill>
          <a:blip r:embed="rId1"/>
          <a:stretch/>
        </p:blipFill>
        <p:spPr>
          <a:xfrm rot="20160000">
            <a:off x="684360" y="1773000"/>
            <a:ext cx="2174760" cy="2097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2003"/>
          <p:cNvPicPr/>
          <p:nvPr/>
        </p:nvPicPr>
        <p:blipFill>
          <a:blip r:embed="rId2"/>
          <a:stretch/>
        </p:blipFill>
        <p:spPr>
          <a:xfrm>
            <a:off x="539640" y="411624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1" descr="zeszyt"/>
          <p:cNvPicPr/>
          <p:nvPr/>
        </p:nvPicPr>
        <p:blipFill>
          <a:blip r:embed="rId3">
            <a:lum contrast="-12000"/>
          </a:blip>
          <a:stretch/>
        </p:blipFill>
        <p:spPr>
          <a:xfrm rot="18906600">
            <a:off x="7067160" y="2101320"/>
            <a:ext cx="1332000" cy="912960"/>
          </a:xfrm>
          <a:prstGeom prst="rect">
            <a:avLst/>
          </a:prstGeom>
          <a:ln w="0">
            <a:noFill/>
          </a:ln>
        </p:spPr>
      </p:pic>
      <p:sp>
        <p:nvSpPr>
          <p:cNvPr id="233" name="Line 53"/>
          <p:cNvSpPr/>
          <p:nvPr/>
        </p:nvSpPr>
        <p:spPr>
          <a:xfrm>
            <a:off x="2057400" y="3362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987640" y="1700280"/>
          <a:ext cx="3073320" cy="2119320"/>
        </p:xfrm>
        <a:graphic>
          <a:graphicData uri="http://schemas.openxmlformats.org/drawingml/2006/table">
            <a:tbl>
              <a:tblPr/>
              <a:tblGrid>
                <a:gridCol w="1474920"/>
                <a:gridCol w="738000"/>
                <a:gridCol w="860400"/>
              </a:tblGrid>
              <a:tr h="504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3366"/>
                          </a:solidFill>
                          <a:latin typeface="Arial Unicode MS"/>
                          <a:ea typeface="Arial Unicode MS"/>
                        </a:rPr>
                        <a:t>A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3366"/>
                          </a:solidFill>
                          <a:latin typeface="Arial Unicode MS"/>
                          <a:ea typeface="Arial Unicode MS"/>
                        </a:rPr>
                        <a:t>A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SimSun"/>
                        </a:rPr>
                        <a:t>A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3366"/>
                          </a:solidFill>
                          <a:latin typeface="Arial Unicode MS"/>
                          <a:ea typeface="Arial Unicode MS"/>
                        </a:rPr>
                        <a:t>A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5" name="AutoShape 149"/>
          <p:cNvSpPr/>
          <p:nvPr/>
        </p:nvSpPr>
        <p:spPr>
          <a:xfrm>
            <a:off x="6156360" y="1628640"/>
            <a:ext cx="503280" cy="4248360"/>
          </a:xfrm>
          <a:custGeom>
            <a:avLst/>
            <a:gdLst>
              <a:gd name="textAreaLeft" fmla="*/ 0 w 503280"/>
              <a:gd name="textAreaRight" fmla="*/ 181800 w 50328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3"/>
          <p:cNvSpPr/>
          <p:nvPr/>
        </p:nvSpPr>
        <p:spPr>
          <a:xfrm>
            <a:off x="4357800" y="37368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987640" y="3860640"/>
          <a:ext cx="3097080" cy="1873440"/>
        </p:xfrm>
        <a:graphic>
          <a:graphicData uri="http://schemas.openxmlformats.org/drawingml/2006/table">
            <a:tbl>
              <a:tblPr/>
              <a:tblGrid>
                <a:gridCol w="1440000"/>
                <a:gridCol w="792000"/>
                <a:gridCol w="865080"/>
              </a:tblGrid>
              <a:tr h="470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96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Rectangle 192"/>
          <p:cNvSpPr/>
          <p:nvPr/>
        </p:nvSpPr>
        <p:spPr>
          <a:xfrm>
            <a:off x="6950160" y="37162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93"/>
          <p:cNvSpPr/>
          <p:nvPr/>
        </p:nvSpPr>
        <p:spPr>
          <a:xfrm>
            <a:off x="7448040" y="3429000"/>
            <a:ext cx="9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A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95"/>
          <p:cNvSpPr/>
          <p:nvPr/>
        </p:nvSpPr>
        <p:spPr>
          <a:xfrm>
            <a:off x="5076720" y="1916280"/>
            <a:ext cx="2087640" cy="288720"/>
          </a:xfrm>
          <a:prstGeom prst="line">
            <a:avLst/>
          </a:prstGeom>
          <a:ln w="2844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6"/>
          <p:cNvSpPr/>
          <p:nvPr/>
        </p:nvSpPr>
        <p:spPr>
          <a:xfrm flipH="1">
            <a:off x="2556000" y="2349360"/>
            <a:ext cx="2808000" cy="432000"/>
          </a:xfrm>
          <a:prstGeom prst="line">
            <a:avLst/>
          </a:prstGeom>
          <a:ln w="2844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3"/>
          <p:cNvSpPr/>
          <p:nvPr/>
        </p:nvSpPr>
        <p:spPr>
          <a:xfrm flipH="1">
            <a:off x="2555640" y="3357720"/>
            <a:ext cx="2592360" cy="1511280"/>
          </a:xfrm>
          <a:prstGeom prst="line">
            <a:avLst/>
          </a:prstGeom>
          <a:ln w="3816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Coś z papieru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Wycinanie, składanie, sklejani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3prisms"/>
          <p:cNvPicPr/>
          <p:nvPr/>
        </p:nvPicPr>
        <p:blipFill>
          <a:blip r:embed="rId1"/>
          <a:stretch/>
        </p:blipFill>
        <p:spPr>
          <a:xfrm>
            <a:off x="5508720" y="981000"/>
            <a:ext cx="2422440" cy="2189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photo_rhinobeetle2"/>
          <p:cNvPicPr/>
          <p:nvPr/>
        </p:nvPicPr>
        <p:blipFill>
          <a:blip r:embed="rId2"/>
          <a:stretch/>
        </p:blipFill>
        <p:spPr>
          <a:xfrm>
            <a:off x="900000" y="2924280"/>
            <a:ext cx="2664000" cy="1931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pic16"/>
          <p:cNvPicPr/>
          <p:nvPr/>
        </p:nvPicPr>
        <p:blipFill>
          <a:blip r:embed="rId3"/>
          <a:stretch/>
        </p:blipFill>
        <p:spPr>
          <a:xfrm>
            <a:off x="4500720" y="3645000"/>
            <a:ext cx="259236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26560" y="3962160"/>
            <a:ext cx="74026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Verdana"/>
              </a:rPr>
              <a:t>koni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8686800" y="-2688840"/>
            <a:ext cx="133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50" name="Picture 7" descr="Papier"/>
          <p:cNvPicPr/>
          <p:nvPr/>
        </p:nvPicPr>
        <p:blipFill>
          <a:blip r:embed="rId1"/>
          <a:stretch/>
        </p:blipFill>
        <p:spPr>
          <a:xfrm rot="19837200">
            <a:off x="3564000" y="1483920"/>
            <a:ext cx="226044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Papier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Picture 6" descr="pe"/>
          <p:cNvPicPr/>
          <p:nvPr/>
        </p:nvPicPr>
        <p:blipFill>
          <a:blip r:embed="rId1"/>
          <a:stretch/>
        </p:blipFill>
        <p:spPr>
          <a:xfrm>
            <a:off x="2340000" y="2997360"/>
            <a:ext cx="4968720" cy="2830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63280" y="1773000"/>
            <a:ext cx="6264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Słowo „papier” pochodzi od greckiego „papyros” czy łacińskiego „papyr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Produkcja papieru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11280" y="4076640"/>
            <a:ext cx="252072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2286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1. rozdrabnianie drewna</a:t>
            </a:r>
            <a:r>
              <a:rPr b="1" lang="pl-PL" sz="16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1" lang="pl-PL" sz="16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2" descr="schem"/>
          <p:cNvPicPr/>
          <p:nvPr/>
        </p:nvPicPr>
        <p:blipFill>
          <a:blip r:embed="rId1"/>
          <a:stretch/>
        </p:blipFill>
        <p:spPr>
          <a:xfrm>
            <a:off x="1042920" y="1341360"/>
            <a:ext cx="720108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6"/>
          <p:cNvSpPr/>
          <p:nvPr/>
        </p:nvSpPr>
        <p:spPr>
          <a:xfrm>
            <a:off x="755640" y="450864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2.młyn mielą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7"/>
          <p:cNvSpPr/>
          <p:nvPr/>
        </p:nvSpPr>
        <p:spPr>
          <a:xfrm>
            <a:off x="900000" y="4941720"/>
            <a:ext cx="39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3. domieszki chemikaliów i barwnik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8"/>
          <p:cNvSpPr/>
          <p:nvPr/>
        </p:nvSpPr>
        <p:spPr>
          <a:xfrm>
            <a:off x="1050120" y="5229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4. wlew masy papiernicz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9"/>
          <p:cNvSpPr/>
          <p:nvPr/>
        </p:nvSpPr>
        <p:spPr>
          <a:xfrm>
            <a:off x="1121400" y="55897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5.komora odsysająca wod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0"/>
          <p:cNvSpPr/>
          <p:nvPr/>
        </p:nvSpPr>
        <p:spPr>
          <a:xfrm>
            <a:off x="4211640" y="4076640"/>
            <a:ext cx="43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6. masa papiernicza odwadniana na si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1"/>
          <p:cNvSpPr/>
          <p:nvPr/>
        </p:nvSpPr>
        <p:spPr>
          <a:xfrm>
            <a:off x="4716360" y="4437000"/>
            <a:ext cx="21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7. walce prasują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2"/>
          <p:cNvSpPr/>
          <p:nvPr/>
        </p:nvSpPr>
        <p:spPr>
          <a:xfrm>
            <a:off x="5076720" y="48690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8. walce suszące 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3"/>
          <p:cNvSpPr/>
          <p:nvPr/>
        </p:nvSpPr>
        <p:spPr>
          <a:xfrm>
            <a:off x="5364000" y="5229360"/>
            <a:ext cx="294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9. taśma wchłaniająca wod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4"/>
          <p:cNvSpPr/>
          <p:nvPr/>
        </p:nvSpPr>
        <p:spPr>
          <a:xfrm>
            <a:off x="5729760" y="5589720"/>
            <a:ext cx="18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10. gotowy 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 Black"/>
              </a:rPr>
              <a:t>Mała historia papieru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63212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I wiek p.n.e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. 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Chińczycy wynaleźli pap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3059280" y="3357720"/>
            <a:ext cx="307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868320" y="2340000"/>
            <a:ext cx="73375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I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    Chińczyk Pi Cheng wykonał ruch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        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elementy drukują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699840" y="3178080"/>
            <a:ext cx="7104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V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   w Polsce w Gdańsku uruchomi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                 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pierwszy młyn papierniczy</a:t>
            </a:r>
            <a:r>
              <a:rPr b="0" lang="pl-P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900000" y="443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VII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w Holandii wynaleziono urządzenie 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          do wyrobu masy papiernic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561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Picture 4" descr="Pierwsza maszyna papiernicza"/>
          <p:cNvPicPr/>
          <p:nvPr/>
        </p:nvPicPr>
        <p:blipFill>
          <a:blip r:embed="rId1"/>
          <a:stretch/>
        </p:blipFill>
        <p:spPr>
          <a:xfrm>
            <a:off x="826920" y="2924280"/>
            <a:ext cx="3600720" cy="2136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erste Papiermaschine"/>
          <p:cNvPicPr/>
          <p:nvPr/>
        </p:nvPicPr>
        <p:blipFill>
          <a:blip r:embed="rId2"/>
          <a:stretch/>
        </p:blipFill>
        <p:spPr>
          <a:xfrm>
            <a:off x="4716360" y="2852640"/>
            <a:ext cx="3816360" cy="22384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4481640" y="28335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1116000" y="40464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VIII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 we Francji  Nikolas  Louis  Robert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wynalazł maszynę papiernicz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IX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 uruchom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ienie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papierni w Jeziornie</a:t>
            </a: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dbudowana STARA PAPIE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PAPIERNIA_66"/>
          <p:cNvPicPr/>
          <p:nvPr/>
        </p:nvPicPr>
        <p:blipFill>
          <a:blip r:embed="rId1"/>
          <a:stretch/>
        </p:blipFill>
        <p:spPr>
          <a:xfrm>
            <a:off x="2268360" y="2206800"/>
            <a:ext cx="5183280" cy="346068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79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Picture 4" descr="Maszyna Donkina"/>
          <p:cNvPicPr/>
          <p:nvPr/>
        </p:nvPicPr>
        <p:blipFill>
          <a:blip r:embed="rId1"/>
          <a:stretch/>
        </p:blipFill>
        <p:spPr>
          <a:xfrm>
            <a:off x="1258920" y="2205000"/>
            <a:ext cx="6769080" cy="2568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0"/>
          <p:cNvSpPr/>
          <p:nvPr/>
        </p:nvSpPr>
        <p:spPr>
          <a:xfrm>
            <a:off x="761400" y="404640"/>
            <a:ext cx="838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IX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 Bryan Dankin zbudował maszyn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papierniczą </a:t>
            </a:r>
            <a:br>
              <a:rPr sz="2400"/>
            </a:b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-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IX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zastosowanie komputerów</a:t>
            </a:r>
            <a:r>
              <a:rPr b="0" lang="pl-PL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Picture 4" descr="Współczesna maszyna papiernicza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5940360" y="1844640"/>
            <a:ext cx="2054160" cy="221616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  <p:sp>
        <p:nvSpPr>
          <p:cNvPr id="141" name="Rectangle 7"/>
          <p:cNvSpPr/>
          <p:nvPr/>
        </p:nvSpPr>
        <p:spPr>
          <a:xfrm>
            <a:off x="7096680" y="42210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papier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Sterowanie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971640" y="2708280"/>
            <a:ext cx="4111560" cy="218448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Papier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Materiał w postaci cienkich arkuszy lub wstęgi, otrzymywany ze spilśnionych włókien roślinnych z odpowiednimi dodatk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771640" y="3068640"/>
            <a:ext cx="3600720" cy="285264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5T18:35:42Z</dcterms:created>
  <dc:creator>Marek Więcław</dc:creator>
  <dc:description/>
  <dc:language>en-US</dc:language>
  <cp:lastModifiedBy>Dorota</cp:lastModifiedBy>
  <dcterms:modified xsi:type="dcterms:W3CDTF">2013-08-13T10:04:56Z</dcterms:modified>
  <cp:revision>55</cp:revision>
  <dc:subject/>
  <dc:title>Slajd 1</dc:title>
</cp:coreProperties>
</file>